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23F9-A043-4276-B5C2-E4B022EE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18536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908-932D-4D2C-90E1-615A28B0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9C74-2AFD-4A4B-98BB-9849733C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328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620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328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620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629-624B-48F6-8A1F-D6B50E40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13040"/>
            <a:ext cx="86742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23AC-FF6F-4DC7-8883-44BCB6F2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742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5FD-E86D-4723-B8E3-48A39992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DD6B-8D1F-41AE-A7D2-0F5899F5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22D-8519-4969-8FAB-7635B15B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539640"/>
            <a:ext cx="90694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5FB5-08B4-4BE3-A5FF-5267C549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8D2-8ECF-4D97-8685-7BE16D74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D10-60D8-46C6-96E5-444D7283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86F1-A433-44F6-B2ED-B2E75680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1913040"/>
            <a:ext cx="86742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000" y="65278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52788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4640" y="65278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4FFDD-8D91-4D62-961D-72A9EEC7602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Mexican_Drug_War" TargetMode="External"/><Relationship Id="rId3" Type="http://schemas.openxmlformats.org/officeDocument/2006/relationships/hyperlink" Target="http://projects.latimes.com/mexico-drug-war/#/its-a-war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20360" y="1912680"/>
            <a:ext cx="8675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Compi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cer Bickn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58536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ground 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75640" cy="426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year more and more people are killed by wars between the Drug Cartels in Mexico, 2010 totaling over 11,000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estimated that 90% of the cocaine in the United States comes through Mex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the cocaine routed through Mexico is produced in the South American country of Colomb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360" y="58536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ea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7564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855000" indent="-63972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xicans have firearms available to them legally but due to the process being difficult most are smuggled from the United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5000" indent="-63972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K-47 and AR-15 semi automatic rifles come from the United States while full automatic weapons are less common and smuggled from elsew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5000" indent="-63972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only one legal gun shop in all of Mex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e Firea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33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: Actual M15 seized from Drug Cartel. Notice US Flag on str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tom: AK-47 exam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165280" y="1912680"/>
            <a:ext cx="4233960" cy="2074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165280" y="4184640"/>
            <a:ext cx="4233960" cy="2075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257800" y="1828800"/>
            <a:ext cx="38862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029200" y="4114800"/>
            <a:ext cx="4486320" cy="228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gh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33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right: darker red areas have more confli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 out of 10 victims in crimes are members of organized crime, such as drug cart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4572000" cy="5029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165640" y="1913040"/>
            <a:ext cx="4233960" cy="42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tical Vs Practic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33960" cy="49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855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ol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5000" indent="-63972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ing 1,800 troops to a border of over 2,000 mi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5000" indent="-63972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forcing the war on drugs in Mexico when the US demand is high for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1912680"/>
            <a:ext cx="4233960" cy="49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 marL="8031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3160" indent="-60084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ing at least 4,000 troops in order to better maintain the b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3160" indent="-60084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ding money on drug rehabilitation programs to cut US dem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galization of Dru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33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need for smugg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Cartels have less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ce goes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casual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1912680"/>
            <a:ext cx="4233960" cy="426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drug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ce goes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US produced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58536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75640" cy="426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en.wikipedia.org/wiki/Mexican_Drug_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projects.latimes.com/mexico-drug-war/#/its-a-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1:24:08Z</dcterms:created>
  <dc:creator/>
  <dc:description>Presentation Layout Template</dc:description>
  <dc:language>en-US</dc:language>
  <cp:lastModifiedBy>Classroom/Lab</cp:lastModifiedBy>
  <dcterms:modified xsi:type="dcterms:W3CDTF">2011-03-31T18:24:07Z</dcterms:modified>
  <cp:revision>3</cp:revision>
  <dc:subject/>
  <dc:title>Numbers on Dark Background</dc:title>
</cp:coreProperties>
</file>